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61E-74B3-449E-B9FD-82DC9291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7F5-4C29-4BA3-BAB7-B8FD464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738-7206-40AB-B3F4-17E6C814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75E-B3F2-4D3E-9A66-C2B05345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1C9-44B1-46A3-97CB-B710C5D7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4A2-D1D5-4025-A5B9-FE536017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960-00C0-4694-9F00-973C234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192-36C2-4D1C-ADFE-4D6C6E59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E97-D9AD-41C9-8D92-BCB7B507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407-9BDB-45D3-900D-5885A60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2D3-8EA7-4815-B3DB-8091D80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7F5-E494-4A7E-A010-0ADE01D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84D7-F64B-4AE2-A39D-1F819487C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pole.pl/miasto/galeria_ratusz.php?gal=ratusz.inc&amp;col=3&amp;pic=6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JE MIAS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248160" cy="1295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ACOWAŁ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BARA PI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79d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ontannę na Placu Daszyńskie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027160" y="1692360"/>
            <a:ext cx="5089680" cy="3384360"/>
            <a:chOff x="2027160" y="1692360"/>
            <a:chExt cx="5089680" cy="3384360"/>
          </a:xfrm>
        </p:grpSpPr>
        <p:sp>
          <p:nvSpPr>
            <p:cNvPr id="89" name=""/>
            <p:cNvSpPr/>
            <p:nvPr/>
          </p:nvSpPr>
          <p:spPr>
            <a:xfrm>
              <a:off x="2027160" y="169236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27160" y="1692360"/>
              <a:ext cx="508968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l-PL" sz="21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zabytki11-1" descr="Opolska Ceres"/>
          <p:cNvPicPr/>
          <p:nvPr/>
        </p:nvPicPr>
        <p:blipFill>
          <a:blip r:embed="rId1"/>
          <a:stretch/>
        </p:blipFill>
        <p:spPr>
          <a:xfrm>
            <a:off x="2743200" y="205740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NY „DOMEK LODOW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arlickiego" descr="Najurokliwszy zakątek na pasiece fot. A. Otola"/>
          <p:cNvPicPr/>
          <p:nvPr/>
        </p:nvPicPr>
        <p:blipFill>
          <a:blip r:embed="rId1"/>
          <a:stretch/>
        </p:blipFill>
        <p:spPr>
          <a:xfrm>
            <a:off x="1447920" y="2057400"/>
            <a:ext cx="6248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LSKĄ „WENECJĘ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1448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41640" y="1643040"/>
            <a:ext cx="5089680" cy="3571920"/>
            <a:chOff x="3041640" y="1643040"/>
            <a:chExt cx="5089680" cy="3571920"/>
          </a:xfrm>
        </p:grpSpPr>
        <p:sp>
          <p:nvSpPr>
            <p:cNvPr id="97" name=""/>
            <p:cNvSpPr/>
            <p:nvPr/>
          </p:nvSpPr>
          <p:spPr>
            <a:xfrm>
              <a:off x="3041640" y="164304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1640" y="1643040"/>
              <a:ext cx="50896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wenecja" descr="Opolska wenecja"/>
          <p:cNvPicPr/>
          <p:nvPr/>
        </p:nvPicPr>
        <p:blipFill>
          <a:blip r:embed="rId1"/>
          <a:stretch/>
        </p:blipFill>
        <p:spPr>
          <a:xfrm>
            <a:off x="1371600" y="2133720"/>
            <a:ext cx="6248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56b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ŚCIÓŁ FRANCISZKAN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027160" y="1692360"/>
            <a:ext cx="5089680" cy="3384360"/>
            <a:chOff x="2027160" y="1692360"/>
            <a:chExt cx="5089680" cy="3384360"/>
          </a:xfrm>
        </p:grpSpPr>
        <p:sp>
          <p:nvSpPr>
            <p:cNvPr id="103" name=""/>
            <p:cNvSpPr/>
            <p:nvPr/>
          </p:nvSpPr>
          <p:spPr>
            <a:xfrm>
              <a:off x="2027160" y="169236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7160" y="1692360"/>
              <a:ext cx="508968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l-PL" sz="21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zabytki9-1" descr="Kościół Franciszkanów"/>
          <p:cNvPicPr/>
          <p:nvPr/>
        </p:nvPicPr>
        <p:blipFill>
          <a:blip r:embed="rId1"/>
          <a:stretch/>
        </p:blipFill>
        <p:spPr>
          <a:xfrm>
            <a:off x="2743200" y="2057400"/>
            <a:ext cx="33066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36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ŚCIÓŁ ŚW. KRZYŻ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27160" y="1692360"/>
            <a:ext cx="5089680" cy="3384360"/>
            <a:chOff x="2027160" y="1692360"/>
            <a:chExt cx="5089680" cy="3384360"/>
          </a:xfrm>
        </p:grpSpPr>
        <p:sp>
          <p:nvSpPr>
            <p:cNvPr id="109" name=""/>
            <p:cNvSpPr/>
            <p:nvPr/>
          </p:nvSpPr>
          <p:spPr>
            <a:xfrm>
              <a:off x="2027160" y="169236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27160" y="1692360"/>
              <a:ext cx="508968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l-PL" sz="21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zabytki4-1" descr="Katedra"/>
          <p:cNvPicPr/>
          <p:nvPr/>
        </p:nvPicPr>
        <p:blipFill>
          <a:blip r:embed="rId1"/>
          <a:stretch/>
        </p:blipFill>
        <p:spPr>
          <a:xfrm>
            <a:off x="2819520" y="2057400"/>
            <a:ext cx="33638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858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ŚCIÓŁ ŚW. SEBAST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027160" y="1692360"/>
            <a:ext cx="5089680" cy="3384360"/>
            <a:chOff x="2027160" y="1692360"/>
            <a:chExt cx="5089680" cy="3384360"/>
          </a:xfrm>
        </p:grpSpPr>
        <p:sp>
          <p:nvSpPr>
            <p:cNvPr id="115" name=""/>
            <p:cNvSpPr/>
            <p:nvPr/>
          </p:nvSpPr>
          <p:spPr>
            <a:xfrm>
              <a:off x="2027160" y="169236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160" y="1692360"/>
              <a:ext cx="508968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l-PL" sz="21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zabytki5-1" descr="Kościół św. Sebastiana"/>
          <p:cNvPicPr/>
          <p:nvPr/>
        </p:nvPicPr>
        <p:blipFill>
          <a:blip r:embed="rId1"/>
          <a:stretch/>
        </p:blipFill>
        <p:spPr>
          <a:xfrm>
            <a:off x="2743200" y="2057400"/>
            <a:ext cx="33066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akże warto zwiedzić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a95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zeum Śląska Opolsk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zeum Wsi Opol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zeum Diecezj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ne Muzeum Jeńców Wojen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apraszamy serdecznie do naszego miasta i życzymy miłego pobyt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Dziękuję pięknie za uwag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Barbara Pir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Mój e-mail: barbara.pirek@wp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1448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1640" y="1643040"/>
            <a:ext cx="5089680" cy="3571920"/>
            <a:chOff x="3041640" y="1643040"/>
            <a:chExt cx="5089680" cy="3571920"/>
          </a:xfrm>
        </p:grpSpPr>
        <p:sp>
          <p:nvSpPr>
            <p:cNvPr id="124" name=""/>
            <p:cNvSpPr/>
            <p:nvPr/>
          </p:nvSpPr>
          <p:spPr>
            <a:xfrm>
              <a:off x="3041640" y="164304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1640" y="1643040"/>
              <a:ext cx="50896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12" descr="Panorama Opola"/>
          <p:cNvPicPr/>
          <p:nvPr/>
        </p:nvPicPr>
        <p:blipFill>
          <a:blip r:embed="rId1"/>
          <a:stretch/>
        </p:blipFill>
        <p:spPr>
          <a:xfrm>
            <a:off x="533520" y="2739960"/>
            <a:ext cx="39621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le – stolicą polskiej piosen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39big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ae8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le - dawni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448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1640" y="1643040"/>
            <a:ext cx="5089680" cy="3571920"/>
            <a:chOff x="3041640" y="1643040"/>
            <a:chExt cx="5089680" cy="3571920"/>
          </a:xfrm>
        </p:grpSpPr>
        <p:sp>
          <p:nvSpPr>
            <p:cNvPr id="50" name=""/>
            <p:cNvSpPr/>
            <p:nvPr/>
          </p:nvSpPr>
          <p:spPr>
            <a:xfrm>
              <a:off x="3041640" y="164304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1640" y="1643040"/>
              <a:ext cx="50896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w12" descr="Ratusz w Opolu"/>
          <p:cNvPicPr/>
          <p:nvPr/>
        </p:nvPicPr>
        <p:blipFill>
          <a:blip r:embed="rId1"/>
          <a:stretch/>
        </p:blipFill>
        <p:spPr>
          <a:xfrm>
            <a:off x="1905120" y="2438280"/>
            <a:ext cx="53337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eca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le – dzi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1640" y="914400"/>
            <a:ext cx="5089680" cy="3571920"/>
            <a:chOff x="3041640" y="914400"/>
            <a:chExt cx="5089680" cy="3571920"/>
          </a:xfrm>
        </p:grpSpPr>
        <p:sp>
          <p:nvSpPr>
            <p:cNvPr id="56" name=""/>
            <p:cNvSpPr/>
            <p:nvPr/>
          </p:nvSpPr>
          <p:spPr>
            <a:xfrm>
              <a:off x="3041640" y="91440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1640" y="914400"/>
              <a:ext cx="50896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19krakowska" descr="W kierunku ul. Krakowskiej"/>
          <p:cNvPicPr/>
          <p:nvPr/>
        </p:nvPicPr>
        <p:blipFill>
          <a:blip r:embed="rId1"/>
          <a:stretch/>
        </p:blipFill>
        <p:spPr>
          <a:xfrm>
            <a:off x="2743200" y="1905120"/>
            <a:ext cx="3171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cb7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le w liczb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9c8f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asto liczy 130 tysięcy mieszkańc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muje powierzchnię 96 kilometrów kwadratow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ole jest miastem 668 u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mieście jest około 1800 sklep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ą Opole oświetla 7 tysięcy la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busy komunikacji miejskiej jeżdżą trasami o długości 87 k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solidFill>
            <a:srgbClr val="f7a7c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warto zobaczyć w Opol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da3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ŻĘ RATUSZOW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27160" y="1643040"/>
            <a:ext cx="5089680" cy="3571920"/>
            <a:chOff x="2027160" y="1643040"/>
            <a:chExt cx="5089680" cy="3571920"/>
          </a:xfrm>
        </p:grpSpPr>
        <p:sp>
          <p:nvSpPr>
            <p:cNvPr id="65" name=""/>
            <p:cNvSpPr/>
            <p:nvPr/>
          </p:nvSpPr>
          <p:spPr>
            <a:xfrm>
              <a:off x="2027160" y="164304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027160" y="1643040"/>
              <a:ext cx="3929040" cy="3571920"/>
              <a:chOff x="2027160" y="1643040"/>
              <a:chExt cx="3929040" cy="3571920"/>
            </a:xfrm>
          </p:grpSpPr>
          <p:sp>
            <p:nvSpPr>
              <p:cNvPr id="67" name=""/>
              <p:cNvSpPr/>
              <p:nvPr/>
            </p:nvSpPr>
            <p:spPr>
              <a:xfrm>
                <a:off x="2027160" y="1643040"/>
                <a:ext cx="3929040" cy="357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27160" y="1643040"/>
                <a:ext cx="13003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pl-PL" sz="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pl-PL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10144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041640" y="914400"/>
            <a:ext cx="5089680" cy="3571920"/>
            <a:chOff x="3041640" y="914400"/>
            <a:chExt cx="5089680" cy="3571920"/>
          </a:xfrm>
        </p:grpSpPr>
        <p:sp>
          <p:nvSpPr>
            <p:cNvPr id="71" name=""/>
            <p:cNvSpPr/>
            <p:nvPr/>
          </p:nvSpPr>
          <p:spPr>
            <a:xfrm>
              <a:off x="3041640" y="91440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1640" y="914400"/>
              <a:ext cx="50896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08" descr="Od ulicy Zamkowej"/>
          <p:cNvPicPr/>
          <p:nvPr/>
        </p:nvPicPr>
        <p:blipFill>
          <a:blip r:embed="rId2"/>
          <a:stretch/>
        </p:blipFill>
        <p:spPr>
          <a:xfrm>
            <a:off x="2666880" y="1981080"/>
            <a:ext cx="3581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b38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ŻĘ PIASTOWSK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144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1640" y="914400"/>
            <a:ext cx="5089680" cy="3571920"/>
            <a:chOff x="3041640" y="914400"/>
            <a:chExt cx="5089680" cy="3571920"/>
          </a:xfrm>
        </p:grpSpPr>
        <p:sp>
          <p:nvSpPr>
            <p:cNvPr id="77" name=""/>
            <p:cNvSpPr/>
            <p:nvPr/>
          </p:nvSpPr>
          <p:spPr>
            <a:xfrm>
              <a:off x="3041640" y="91440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1640" y="914400"/>
              <a:ext cx="50896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05" descr="Od strony stawku II"/>
          <p:cNvPicPr/>
          <p:nvPr/>
        </p:nvPicPr>
        <p:blipFill>
          <a:blip r:embed="rId1"/>
          <a:stretch/>
        </p:blipFill>
        <p:spPr>
          <a:xfrm>
            <a:off x="2819520" y="1981080"/>
            <a:ext cx="3429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89e2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ielony mos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27160" y="1692360"/>
            <a:ext cx="5089680" cy="3384360"/>
            <a:chOff x="2027160" y="1692360"/>
            <a:chExt cx="5089680" cy="3384360"/>
          </a:xfrm>
        </p:grpSpPr>
        <p:sp>
          <p:nvSpPr>
            <p:cNvPr id="83" name=""/>
            <p:cNvSpPr/>
            <p:nvPr/>
          </p:nvSpPr>
          <p:spPr>
            <a:xfrm>
              <a:off x="2027160" y="1692360"/>
              <a:ext cx="508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27160" y="1692360"/>
              <a:ext cx="508968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l-PL" sz="21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zabytki10-1" descr="Zielony mostek"/>
          <p:cNvPicPr/>
          <p:nvPr/>
        </p:nvPicPr>
        <p:blipFill>
          <a:blip r:embed="rId1"/>
          <a:stretch/>
        </p:blipFill>
        <p:spPr>
          <a:xfrm>
            <a:off x="2895480" y="2057400"/>
            <a:ext cx="3295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20:11:38Z</dcterms:created>
  <dc:creator>Barbara Pirek</dc:creator>
  <dc:description/>
  <dc:language>en-US</dc:language>
  <cp:lastModifiedBy>Barbara Pirek</cp:lastModifiedBy>
  <dcterms:modified xsi:type="dcterms:W3CDTF">2004-12-18T18:14:06Z</dcterms:modified>
  <cp:revision>23</cp:revision>
  <dc:subject/>
  <dc:title>MOJE MIASTO</dc:title>
</cp:coreProperties>
</file>